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BCD-8C8F-43D0-A54D-4A0FEA86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5C1-4197-4E60-A4FA-0B924D1C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81E-C379-486E-B2AF-968B6105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179-1B3F-4A43-A13D-63BE41D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34C-EC93-4E0B-B3E4-427B8C9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C16-70C9-493F-8049-A1447F7C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D7B-39D1-46C9-B997-D38F868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5E0-0D08-44CA-9C9C-16863DDA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81E-427C-475F-9084-7305392D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EBD-4F32-4130-B8AD-7CAA818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EF1-833E-4025-BDA6-1E865A4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331-92B9-4C7A-9D93-5160C08B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649-DCFA-4807-8692-E9C8D3E19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’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ssessment about, what is ‘Roots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90400"/>
            <a:ext cx="83566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7375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uggeste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opening paragraph containing details: It’s a TV series, based on a book by…, tells the story of…. Etc (no more than 70-100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section: Combining your analysis with the summary. E.g. The show features a captain…. This change may have been because….this affects the shows reliability because….howev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o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V mini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book written by Alex Hay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hown in the USA in 19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ve success: watched by 85% of US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of history for many people in the USA for years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e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1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the story of Alex Hayley’s family history, blended with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elling book of all time in the USA at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of continuing racial tensions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people in much improved position thanks to efforts of people like M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discrimination still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as a show showing black people as the hero’s and a telling the story of ‘black history’ for the first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V review for a kids history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plot, characters, the author and how useful the show is for young people studying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word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sheet for further details and mark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ing th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ow you should have a good understanding of th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also understand some of the criticism received by the book and s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need to combine these two things into your review: an assessment of how useful this show is for students studying the slave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ing your asse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mmary of th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grammar and correct presentation (see guide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ssessment of the usefulness and reliability of the mini-series as a historical source for young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nal opinion on this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 vs reliability, what’s the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take a look at an example.. Imagine you were studying the reasons for Germany’s defeat in WW1 1914-1918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138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0-29T05:12:07Z</dcterms:modified>
  <cp:revision>8</cp:revision>
  <dc:subject/>
  <dc:title>‘Roots’ assessment</dc:title>
</cp:coreProperties>
</file>